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D350-C547-4D3C-A67D-32507572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C64B-9D61-4D15-AF17-73DF013CB7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5CCF-C705-4533-BECC-641A335679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A80-DA28-42A7-A16F-6FE33761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3D8-A0D8-4C5C-9E89-81539040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162-D1EE-4C8C-8E3F-DFEF792C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228-DF44-4077-836D-16391A4E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1F9-5AA5-49FC-BD7F-89AEAD02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CAD5-6AA3-4B90-9812-76762E2C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93E7-BEB9-4DF2-BB17-9FE1EA88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F662-A21A-4BDE-9A08-FFE2F499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86C9-7CED-47AE-92A9-8B32A83F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6461-96AD-4F38-86D3-0E6EFF64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78DC-1061-4B86-8C2E-1B62A326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C92-77F6-48A4-8854-ED897A22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3361-4977-4640-993F-1A75036B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1D27-4186-4283-88A4-82D75314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8BEE-4C59-4054-A849-64EC9C94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ACA9-FF83-420E-BE5F-96DD6277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AA93-6BE8-4850-9095-C4456539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41E-9292-48A3-A395-99D2AD9C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AA0-D931-4A21-AE1B-B8113093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434-6002-439B-BAA6-1C61C863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A4B-8B13-4F99-8447-65ED2406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C97-B383-4913-9D86-385FA298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58A-975D-4F3A-A7F8-13F3A6DC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51E-30EE-4228-9ED1-EC5E45E0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62FF-FE88-4F5F-BAD9-B599108C65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6F85-7A8D-40A0-86CE-2415DF81E0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ubpages.com/hub/Types-Of-Computer-Viruses" TargetMode="External"/><Relationship Id="rId2" Type="http://schemas.openxmlformats.org/officeDocument/2006/relationships/hyperlink" Target="http://www.spamlaws.com/virus-comtype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MPUTER VIRUS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 Techn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wa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tomatically displays advertisements in order to generate reven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http://upload.wikimedia.org/wikipedia/en/1/1a/Pop-up_ads.jpg"/>
          <p:cNvPicPr/>
          <p:nvPr/>
        </p:nvPicPr>
        <p:blipFill>
          <a:blip r:embed="rId1"/>
          <a:stretch/>
        </p:blipFill>
        <p:spPr>
          <a:xfrm>
            <a:off x="3429000" y="3048120"/>
            <a:ext cx="40384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ywa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ftware that enables the user to gain information from a computer without the user’s knowle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2" descr="http://blog.contactpointe.com/wp-content/uploads/2011/08/spyware.jpg"/>
          <p:cNvPicPr/>
          <p:nvPr/>
        </p:nvPicPr>
        <p:blipFill>
          <a:blip r:embed="rId1"/>
          <a:stretch/>
        </p:blipFill>
        <p:spPr>
          <a:xfrm>
            <a:off x="1676520" y="3505320"/>
            <a:ext cx="2895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le Vir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rus that infects programs or executable files.  When the program is run, the virus is activa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rnoby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orious for overwriting a section of the hard disk, making it impossible to access da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ot Sector Vir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s the system files that your computer uses every time it is turned 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use widespread damage and recurring proble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ned Vir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ery time you turn on your computer the virus is activated and infects any non-write-protected files including your hard dis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ojan Hor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uter program that seems to perform one function while actually doing something el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fferent from a virus because it does not make copies of it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s your computer susceptible to malicious intru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ent tasks that can be aff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ealing passwo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eting fi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Trojan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4772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ojan Horse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ftware program designed to enter a computer system usually through a network, through security holes and then replicate its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eads from computer to computer by copying and multiplying itself thus spreading throughout a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m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4" descr="Worm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tecting Yourself from Viru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ivirus softwar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ftware that attempts to recognize and destroy viruses before they infect your compu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5" descr="http://lerablog.org/wp-content/uploads/2013/04/antivirus-program.jpg"/>
          <p:cNvPicPr/>
          <p:nvPr/>
        </p:nvPicPr>
        <p:blipFill>
          <a:blip r:embed="rId1"/>
          <a:stretch/>
        </p:blipFill>
        <p:spPr>
          <a:xfrm>
            <a:off x="3581280" y="3352680"/>
            <a:ext cx="4496040" cy="28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tecting Yourself from Viru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pda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ep your programs updated.  Companies often provide updates to fix vulnerabilit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http://www.kenwood-electronics.co.uk/WebFiles/Images/web/uk/Left%20pictures/SoftwareUpdates.jpg"/>
          <p:cNvPicPr/>
          <p:nvPr/>
        </p:nvPicPr>
        <p:blipFill>
          <a:blip r:embed="rId1"/>
          <a:stretch/>
        </p:blipFill>
        <p:spPr>
          <a:xfrm>
            <a:off x="4495680" y="36576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uter Vir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ind of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licious software written intentionally t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er a computer without the user’s permission or knowledge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th the ability to replicate itself, thus continuing to spre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tecting Yourself from Viru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open any suspicious emails, attachments, or a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careful what you download from the intern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http://t3.gstatic.com/images?q=tbn:ANd9GcT4-69dNxr5Ld8d82YItSHPTtw71EQvizR4WyZW24fTFTMD_y8gyw:upscportal.com/civilservices/images/download-button.jpg"/>
          <p:cNvPicPr/>
          <p:nvPr/>
        </p:nvPicPr>
        <p:blipFill>
          <a:blip r:embed="rId1"/>
          <a:stretch/>
        </p:blipFill>
        <p:spPr>
          <a:xfrm>
            <a:off x="1828800" y="4419720"/>
            <a:ext cx="2209680" cy="2120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pokbtop.files.wordpress.com/2012/01/email-attachment.jpg"/>
          <p:cNvPicPr/>
          <p:nvPr/>
        </p:nvPicPr>
        <p:blipFill>
          <a:blip r:embed="rId2"/>
          <a:stretch/>
        </p:blipFill>
        <p:spPr>
          <a:xfrm>
            <a:off x="6888240" y="16765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sons, June Jamrich, and Dan Oj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omputer Concept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Boston: Course Technology - Thompson Learning, 2002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hubpages.com/hub/Types-Of-Computer-Viru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spamlaws.com/virus-comtypes.htm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ttp://www.buzzle.com/articles/different-types-of-computer-viruses.htm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es a virus d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etes files, destroys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rupts fi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rupts your computer sy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plays irritating messa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days, many viruses are more interested in harvesting information from your computer to be used for illegal purpo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ruses Spread Themsel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’s like spreading a virus in the human population – we get sick when we are exposed to a virus and our defenses are d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computer gets exposed to a virus when its defenses are d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http://thumbs.dreamstime.com/z/computer-virus-5638877.jpg"/>
          <p:cNvPicPr/>
          <p:nvPr/>
        </p:nvPicPr>
        <p:blipFill>
          <a:blip r:embed="rId1"/>
          <a:stretch/>
        </p:blipFill>
        <p:spPr>
          <a:xfrm>
            <a:off x="6477120" y="3733920"/>
            <a:ext cx="22446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reading Viru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ruses spread because people distribute infected files by exchanging disks and CDs, sending e-mail attachments, and downloading documents from the Inter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you open the infected file, the virus may open and waits to infect the next program you run or disk you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reading Viruses (continue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ruses have the ability to lurk in a computer for days or months, quietly replicating themsel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ay not even know your computer has a virus, thus making it easier to spread the vir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igger Ev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 event that activates a task often associated with a computer vir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me Bom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tches for the PC clock to reach a certain date to activate the vir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chelangelo vir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mages files on March 6 the artist’s birth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c Bom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tches for a specific set of input to activate the vir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fication of Viru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6" descr="j0210892[1]"/>
          <p:cNvPicPr/>
          <p:nvPr/>
        </p:nvPicPr>
        <p:blipFill>
          <a:blip r:embed="rId1"/>
          <a:stretch/>
        </p:blipFill>
        <p:spPr>
          <a:xfrm>
            <a:off x="2182680" y="1600200"/>
            <a:ext cx="47786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lwa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icious softw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nded to damage computers or disrupt computer syst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2" descr="http://www3.pcmag.com/media/images/317665-computer-malware.jpg"/>
          <p:cNvPicPr/>
          <p:nvPr/>
        </p:nvPicPr>
        <p:blipFill>
          <a:blip r:embed="rId1"/>
          <a:stretch/>
        </p:blipFill>
        <p:spPr>
          <a:xfrm>
            <a:off x="3962520" y="3352680"/>
            <a:ext cx="35049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4:19:05Z</dcterms:created>
  <dc:creator>Michelle Guymon</dc:creator>
  <dc:description/>
  <dc:language>en-US</dc:language>
  <cp:lastModifiedBy>ASDUser</cp:lastModifiedBy>
  <dcterms:modified xsi:type="dcterms:W3CDTF">2013-11-10T02:53:07Z</dcterms:modified>
  <cp:revision>35</cp:revision>
  <dc:subject/>
  <dc:title>Viruses</dc:title>
</cp:coreProperties>
</file>